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BC34-C06F-49E3-9410-9B5FF5348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6856-4189-4624-B1E9-F880FCBF3E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C1D9-DE75-43A4-86FA-7CCA290AB3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A0A2-2A59-4AF4-9BC9-1F30F992FF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C9F0-8EE5-45B3-BDA4-3656810B21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EFE1-9791-48F6-B2FD-CBD06CAEA3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2BFC-3A10-4FEB-A52D-4700FBF390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A7EE-1958-40E9-B1D3-41DD3477E0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03DD-B4A2-416F-9B7A-678FBD411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05DC-E1C8-43CD-AA5E-7ED88B4649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E559-9FEF-4B5A-A7E8-A9E2CA89B3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D29D-921E-4BB1-930C-07BC88F996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0DA4-394B-4623-93A9-F8158A58FD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1340-72A9-40F3-B4D7-3E868E3CB3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DC9C-B1E8-42DE-B38C-941154FC7A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BAAA-4B5D-4178-A1D5-4131AADF0E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C86C6-0BF8-4456-B444-19822446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E9B1E-C562-4E07-9E94-2CA3F3D5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B9C76-0E51-4652-8B2B-5DFDC324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CAA93-5D78-4796-8141-96B1B0D4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8D1F-FC76-4818-8803-D7C30AC3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6CA7-FCEA-41EB-9F53-8771B53B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9FC2-1B43-43BB-9314-F62E80A0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D9EC-3056-4C3D-9EF8-1FC5D9EC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1A17-06B4-4758-8419-7DDC6309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9AF0-8E59-4FA3-8126-48633618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CCFB-D8FF-47F7-BB3F-7746FF98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8DFE3-FC36-4679-94AE-DC8B6AEA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17AD-51E8-4B61-AC07-47755165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2E09-96F3-4904-8680-50353652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ABD8-6D37-47A3-9B12-10CF9DD2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5525-74B6-4BD7-A9F3-D68C65E6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548F-331F-45FC-A3A9-AC0E7E7A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E23F6-9888-4C3F-A370-C58DC923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B1990-3753-4B49-B780-BAF80929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F0E2A-FA8F-4B49-A8AF-16699C2E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A9290-5EAA-4BE8-84B1-01A3CD62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61595-50C2-4BB0-8751-A3C3AFBB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4D815-AA02-452A-8F3D-8C92A7B1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0740E-9434-4B6D-83C2-63BE6F31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BB71-0A51-43CD-9639-E49C80A2B3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B992-D828-4809-9B21-526876C031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320" y="-100080"/>
            <a:ext cx="35049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 is finally its own country, what are two problems you expect them to fac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5257800" y="108000"/>
            <a:ext cx="3733920" cy="4189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228600" y="97776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orthwest Territor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rcRect l="0" t="0" r="0" b="5556"/>
          <a:stretch/>
        </p:blipFill>
        <p:spPr>
          <a:xfrm>
            <a:off x="571680" y="2133720"/>
            <a:ext cx="3429000" cy="43434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orthwest Territory was east of the Mississippi River and north of the Ohio River. The states of Ohio, Indiana, Illinois, Michigan, and Wisconsin would be formed from this area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47242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hay’s Rebell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87440" y="5105520"/>
            <a:ext cx="79963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farmers get really mad and fight against their governmen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657360" y="1681200"/>
            <a:ext cx="4019400" cy="316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5211720" y="31608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Reasons for Shay’s Rebell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armers are required to pay debts in gold, they have no money because they were not paid during the wa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althy lawmakers invested their money in the war too. And seek to get money from the farmers debts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5562720" y="1905120"/>
            <a:ext cx="3124080" cy="4114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Shays’s Rebell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976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or farmers are not represented in the Mass legislature and cannot pass debt relief la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ebellion will free debtors from prisons and close courts that are hearing cases against far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Shays’s Rebell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ss militia is called out to stop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or farmers in 1791 elect officials who support their stance and will close courthouses and demand financial help from the Cong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ys’s Rebellion will prompt national leaders to create a stonger central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Views about Shays’s Rebell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of America’s Founding Fathers have two opinions about Shays’ Rebell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are they different from each oth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ch one do you agree with mor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ch one does our society agree with tod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amuel Adams Said What?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Rebellion against a king may be pardoned, or lightly punished, but the man who dares to rebel against the laws of a republic ought to suffer death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3996" t="0" r="3996" b="1853"/>
          <a:stretch/>
        </p:blipFill>
        <p:spPr>
          <a:xfrm>
            <a:off x="5486400" y="1905120"/>
            <a:ext cx="3048120" cy="40384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omas Jefferson Said What?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"A little rebellion now and then is a good thing. It is a medicine necessary for the sound health of government. God forbid that we should ever be twenty years without such a rebellion.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37200" y="1600200"/>
            <a:ext cx="3549600" cy="4530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Views about Shays’s Rebell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ms will also write a law called th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iot Ac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which prohibits 12 people or more from meeting and gives the government the power to shoot rioter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ssessment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seeing some of the problems with the Articles of Confederation and how they caused Shays’ Rebellion, answer thi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ow would you revise/change the Articles of Confederation to make a better government?  How would this change improve the government? (2 sentenc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Objective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will be able to analyze Shays’ Rebellion in order to revise the Articles of Confeder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The Articles of Confederatio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The Articles of Confedera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599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rticles were written in 1777 by John Dickinson, a Penn. statesm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rticles were accepted by Congress in 1781 and is considered the first national constit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3581280" cy="4114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The Articles of Confedera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ear of having too much power in one person’s hands reflects the experiences the colonies had under a monarch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Articles the state governments limit the power of the national Con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5378400" y="1600200"/>
            <a:ext cx="3308400" cy="45306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Weaknesses of the Articles of Confedera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gress had no power to raise tax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gress had no power regulate foreign or state t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ws had to be approved by 9 out of 13 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gress did not have the power to enforce la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Strengths of the Articles of Confedera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reaty of Paris 1783 was sig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orthwest Ordinance was pas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d the power to declare war and peace, print money, make treaties and settle state dispu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Tahoma"/>
              </a:rPr>
              <a:t>Strengths of the Articles of Confederation: Settling Western Lands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he Land Ordinance of 1785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d that land in the west was to be surveyed using a grid system to establish 6 mile bloc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he Northwest Ordinan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ssisted in the orderly expansion of the United States, it outlined a plan for applying for statehood to western territo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,000 free males who own 50 acres can start gov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pulation of 60,000 could become a st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Settling Western land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rthwest Ordinance provides an orderly settlement process in the W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promi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slave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u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eedom of relig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ial by ju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rcRect l="0" t="22226" r="0" b="0"/>
          <a:stretch/>
        </p:blipFill>
        <p:spPr>
          <a:xfrm>
            <a:off x="5486400" y="2133720"/>
            <a:ext cx="3200400" cy="38862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04:43:01Z</dcterms:created>
  <dc:creator>core curr</dc:creator>
  <dc:description/>
  <dc:language>en-US</dc:language>
  <cp:lastModifiedBy>Howard County Administrator</cp:lastModifiedBy>
  <dcterms:modified xsi:type="dcterms:W3CDTF">2015-12-02T16:36:17Z</dcterms:modified>
  <cp:revision>25</cp:revision>
  <dc:subject/>
  <dc:title>The Articles of Confederation</dc:title>
</cp:coreProperties>
</file>